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948-595F-4010-A270-6DEE7E84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398-FE0A-4796-BC89-E6BD84E4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6A4-3570-4AD7-9DC4-7CBCF73C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B2B-DEBC-4D81-BC41-0F77735D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4D6-234F-4D5E-A0E6-546A0FA1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F65-220B-4384-B304-37CBD2F6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44F-2F2D-40E0-8D9E-24626109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74A-F92B-4591-B040-0B47629F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F9B-30E6-4A57-8F4A-ACD8B8C2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36D-36EB-4925-97EA-4095CA2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783-B55F-42CD-9E56-E729328B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F72-09AF-42E6-9FC8-23D0AD16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7B991-D50F-4B1B-8FFF-EA980B1F2F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43040" y="284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7390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457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ln w="457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457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457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cimal word problem</a:t>
            </a:r>
            <a:endParaRPr b="0" lang="en-US" sz="1800" spc="-1" strike="noStrike">
              <a:ln w="457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30160" y="2286000"/>
            <a:ext cx="7856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runs 3 miles his friend ran 3.5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iles did they run all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343400"/>
            <a:ext cx="24670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+3.5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3932280"/>
            <a:ext cx="406440" cy="40968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4898880"/>
            <a:ext cx="406440" cy="40824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5992920"/>
            <a:ext cx="406440" cy="40788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48200" y="3933720"/>
            <a:ext cx="406440" cy="40824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4898880"/>
            <a:ext cx="406440" cy="40824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48200" y="5992920"/>
            <a:ext cx="450720" cy="40788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43520" y="3933720"/>
            <a:ext cx="406440" cy="40824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80160" y="4898880"/>
            <a:ext cx="406440" cy="40824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43520" y="5992920"/>
            <a:ext cx="406440" cy="40788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75480" y="4962600"/>
            <a:ext cx="406440" cy="40788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75480" y="5992920"/>
            <a:ext cx="406440" cy="40788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57920" y="4948200"/>
            <a:ext cx="325440" cy="1800"/>
          </a:xfrm>
          <a:prstGeom prst="roundRect">
            <a:avLst>
              <a:gd name="adj" fmla="val 50000"/>
            </a:avLst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89880" y="3933720"/>
            <a:ext cx="406080" cy="408240"/>
          </a:xfrm>
          <a:prstGeom prst="ellipse">
            <a:avLst/>
          </a:prstGeom>
          <a:solidFill>
            <a:srgbClr val="0047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3886200"/>
            <a:ext cx="457200" cy="2514600"/>
          </a:xfrm>
          <a:custGeom>
            <a:avLst/>
            <a:gdLst>
              <a:gd name="textAreaLeft" fmla="*/ 360 w 457200"/>
              <a:gd name="textAreaRight" fmla="*/ 456840 w 457200"/>
              <a:gd name="textAreaTop" fmla="*/ 360 h 2514600"/>
              <a:gd name="textAreaBottom" fmla="*/ 2514240 h 2514600"/>
            </a:gdLst>
            <a:ahLst/>
            <a:rect l="textAreaLeft" t="textAreaTop" r="textAreaRight" b="textAreaBottom"/>
            <a:pathLst>
              <a:path w="21600" h="118724">
                <a:moveTo>
                  <a:pt x="75" y="0"/>
                </a:moveTo>
                <a:arcTo wR="75" hR="75" stAng="16200000" swAng="-5400000"/>
                <a:lnTo>
                  <a:pt x="0" y="118649"/>
                </a:lnTo>
                <a:arcTo wR="75" hR="75" stAng="10800000" swAng="-5400000"/>
                <a:lnTo>
                  <a:pt x="21525" y="118724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3:54:32Z</dcterms:created>
  <dc:creator/>
  <dc:description/>
  <dc:language>en-US</dc:language>
  <cp:lastModifiedBy/>
  <cp:revision>1</cp:revision>
  <dc:subject/>
  <dc:title/>
</cp:coreProperties>
</file>